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7567-6C46-47D6-A516-21032A1AD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C299-87A5-42E1-A852-1BF6E6CB4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2234-4C26-47E2-BD7E-EB2C241F7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9E4C-9982-456E-B6B1-A9561C24E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0914-43CE-4496-9A9B-F5F2DACF6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141C-69D8-4A22-9481-681B8B613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0648-3308-4941-A33D-8676A54AA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0CFF-47B1-4324-BA7E-06FC94A55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48E2-4A21-4A63-A96A-E24D9A5A8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3160-48F0-4F5E-83DD-611F61374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97A0-BC93-4140-8B9D-59710C0CE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1B79-9DE3-4F43-B23B-7E40732C1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6943-B91C-4970-943B-19DE1878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E858-D7BB-442C-A385-B195B621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2DED-E14F-43C0-B84C-84FF756D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6ABF-9398-4CB4-ACF3-9E545DBE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CB7A-7A7C-49AE-A520-6ABC7C58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C9A0-ED1F-4539-9F4E-D3CE317E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E92A-99EE-4D8A-901D-AAF9A3C9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7AE9-38A1-4710-8CD5-1F54018C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529F-B5FA-45BE-A20A-EA6217DC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D37C-64F9-4856-B12A-0B58019F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0FE2-2F7F-441A-868D-AFFDC678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FB01-4A0B-45D4-BB1B-660479C1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7FF1-788B-481B-B187-1751CA25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029B-A164-4158-A785-E206AD81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622A-4259-4267-87D9-532B2225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CDCC-8826-4AE8-A9F4-40DA8094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4677-C44E-4768-A56E-2A440156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91675-B854-42BF-B5E5-328F9C6E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84FFD-0E64-4AEF-8CDF-7DA04999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8FD10-8F11-4646-A932-E3DDD440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1608A-3012-4770-928B-48163A44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7CFB6-019E-46A6-8846-8E09B99B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521D-9EE1-415F-A266-3B43F8C1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71C08-748B-46FD-8295-18DFD524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6D5E7-88B7-4AB8-B9E4-2D25B8E8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034BA-7045-46B6-848E-E0626EBD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97A91-1804-4E24-8B37-53367687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A440F-604C-4239-B030-18A4A07A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C399F-8691-4391-82E7-53B396C9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F523C-48E6-41D2-9AD1-659518C6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9A16-18D9-4965-89F9-B8385694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E452-B2ED-49D8-925D-958C30F8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1E9F-8123-426B-BCA9-09C21835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F356-D587-4649-B7C9-F0F9C4E0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CC6A-3368-44E4-A2C1-5EAD911C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AD28-02B0-452A-AF7F-32B04284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7640"/>
              <a:chOff x="41400" y="-4680"/>
              <a:chExt cx="101232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1120" y="-4680"/>
                <a:ext cx="987480" cy="6834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1480" y="1693440"/>
                <a:ext cx="987480" cy="5004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3280" y="1285200"/>
                <a:ext cx="98748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3280" y="149400"/>
                <a:ext cx="987480" cy="303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1480" y="985680"/>
                <a:ext cx="98748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3280" y="681120"/>
                <a:ext cx="987480" cy="4316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3640" y="372600"/>
                <a:ext cx="1000080" cy="3744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1400" y="3938760"/>
                <a:ext cx="987120" cy="4993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1760" y="3535200"/>
                <a:ext cx="98748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3560" y="2395080"/>
                <a:ext cx="987480" cy="3045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1760" y="3230640"/>
                <a:ext cx="987480" cy="3484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3200" y="2927520"/>
                <a:ext cx="987480" cy="4280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3920" y="2617560"/>
                <a:ext cx="1000080" cy="375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9800"/>
                <a:ext cx="9871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840"/>
                <a:ext cx="987480" cy="503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560"/>
                <a:ext cx="98748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520" y="6185520"/>
                <a:ext cx="345960" cy="9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201360"/>
                <a:ext cx="987120" cy="429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2120"/>
                <a:ext cx="1000080" cy="375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3061-4CBB-4DBD-83F5-F8E3105F1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4A0C-AE24-4369-9DB2-DFA4327D3EE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026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106" name="Group 1027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107" name="Freeform 1028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029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030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031"/>
              <p:cNvSpPr/>
              <p:nvPr/>
            </p:nvSpPr>
            <p:spPr>
              <a:xfrm flipH="1" rot="5400000">
                <a:off x="8241120" y="278208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032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033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034"/>
              <p:cNvSpPr/>
              <p:nvPr/>
            </p:nvSpPr>
            <p:spPr>
              <a:xfrm flipH="1" rot="5400000">
                <a:off x="7890840" y="274212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35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036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037"/>
              <p:cNvSpPr/>
              <p:nvPr/>
            </p:nvSpPr>
            <p:spPr>
              <a:xfrm flipH="1" rot="5400000">
                <a:off x="5246280" y="2775600"/>
                <a:ext cx="990360" cy="404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038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039"/>
              <p:cNvSpPr/>
              <p:nvPr/>
            </p:nvSpPr>
            <p:spPr>
              <a:xfrm flipH="1" rot="5400000">
                <a:off x="445248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040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041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042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043"/>
              <p:cNvSpPr/>
              <p:nvPr/>
            </p:nvSpPr>
            <p:spPr>
              <a:xfrm flipH="1" rot="5400000">
                <a:off x="875160" y="2775240"/>
                <a:ext cx="99036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044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045"/>
              <p:cNvSpPr/>
              <p:nvPr/>
            </p:nvSpPr>
            <p:spPr>
              <a:xfrm flipH="1" rot="5400000">
                <a:off x="8100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046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Freeform 1047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048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D73E-D85D-483A-8349-A17D7BF74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ding Worksho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tretch/>
        </p:blipFill>
        <p:spPr>
          <a:xfrm>
            <a:off x="3809880" y="3886200"/>
            <a:ext cx="1462320" cy="1752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at are the components of the reading workshop block?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osur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bring closure to the reading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m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inu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en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share how they incorporated the mini-lesson into their reading/writing work.  Students share successes/challenges of their r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ach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s discussion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Art of Teaching Rea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ucy Calk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uiding Readers &amp; Wri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ountas &amp; Pinn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didng with Mea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ebbie Mi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7 Keys to Comprehen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usan Zimmerman and Chryse Hutch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nee to Knee, Eye to Ey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rthis Davis C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ategies that 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tephanie Havey &amp; Anne Goud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ssential Questio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do I prepare to teach reading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are the components of the reading workshop block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ow do I prepare to teach reading?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Knowledge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of how reading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of how text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of r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of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ow do I prepare to teach reading? </a:t>
            </a:r>
            <a:br>
              <a:rPr sz="40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assroo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ing your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3 of classroom books should be leve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ing your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s should be displayed and accessible to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ow do I prepare to teach reading? </a:t>
            </a:r>
            <a:br>
              <a:rPr sz="40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udent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Levels/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ning Records, DRAs, Benchmark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Inven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your who your students are as r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re the components of the reading workshop block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Reading/Confer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 Workshop Inte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 Reading/Buz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ing Share Time/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at are the components of the reading workshop block?</a:t>
            </a:r>
            <a:br>
              <a:rPr sz="2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iniless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ort lesson that focuses on procedures, a reading strategy, or a reading skill.  The lesson contains an essential question/objective, explanation/teaching, demonstration, practice, and clo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m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inu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en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ly listening, Practic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ach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Instructs, Model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at are the components of the reading workshop block?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Independent Reading/Conferenc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choose books to read that are on their independent reading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m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-40 minu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en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, Recording thinking, Journal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ach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erencing with studen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ng Strategy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ing Book Clu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at are the components of the reading workshop block?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Buzzing/Discuss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are matched in ability partnerships to discuss their r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m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-10 minu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en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ng, Ques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ach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erencing with 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xtend/support student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7:55:15Z</dcterms:created>
  <dc:creator>Tech Services</dc:creator>
  <dc:description/>
  <dc:language>en-US</dc:language>
  <cp:lastModifiedBy>Tech Services</cp:lastModifiedBy>
  <cp:lastPrinted>2009-07-02T19:01:16Z</cp:lastPrinted>
  <dcterms:modified xsi:type="dcterms:W3CDTF">2010-10-18T20:16:03Z</dcterms:modified>
  <cp:revision>18</cp:revision>
  <dc:subject/>
  <dc:title>Reading Workshop</dc:title>
</cp:coreProperties>
</file>